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9.png" ContentType="image/png"/>
  <Override PartName="/ppt/media/image46.png" ContentType="image/png"/>
  <Override PartName="/ppt/media/image50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44.wmf" ContentType="image/x-wmf"/>
  <Override PartName="/ppt/media/image45.png" ContentType="image/png"/>
  <Override PartName="/ppt/media/image51.jpeg" ContentType="image/jpe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47.jpeg" ContentType="image/jpeg"/>
  <Override PartName="/ppt/media/image52.jpeg" ContentType="image/jpeg"/>
  <Override PartName="/ppt/media/image55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7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76D-9C04-4994-BC93-1C820998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7D0-3CF3-4F1D-B71D-623B47D7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7CE-886A-4E1C-85A5-316E47FA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0FF-95B3-4428-AEF0-21E317D8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58E-FC61-4B89-AB75-D4259896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497-E73E-4967-9D25-1B8C1EDA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42F-76E7-43DF-A562-511A9537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3D5-C6A0-442B-8D73-F1CFC67F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337-A689-475B-B964-C5C4C868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38F-8FF7-4D82-81FC-10EC4BCD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ED8-145D-44B8-82B5-4F1F3337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3C9-4F6D-4DA6-A34B-13F8DED3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3B8B-5781-407F-B6A9-08CE43BC6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40.png"/><Relationship Id="rId5" Type="http://schemas.openxmlformats.org/officeDocument/2006/relationships/image" Target="../media/image25.png"/><Relationship Id="rId6" Type="http://schemas.openxmlformats.org/officeDocument/2006/relationships/image" Target="../media/image40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84360" y="836640"/>
            <a:ext cx="7704000" cy="37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Для нач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н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нажмите F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431640" y="5157720"/>
            <a:ext cx="82090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Только для Windows XP!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366840" y="3435480"/>
            <a:ext cx="8496000" cy="1274760"/>
          </a:xfrm>
          <a:prstGeom prst="wedgeRoundRectCallout">
            <a:avLst>
              <a:gd name="adj1" fmla="val -31185"/>
              <a:gd name="adj2" fmla="val -188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Шрифт можно выбирать как перед началом работы, так и изменять напечатанный текст, предварительно выделив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46200" y="1631880"/>
            <a:ext cx="38545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Лицей села Олуя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2664000" y="279360"/>
            <a:ext cx="6019560" cy="933480"/>
          </a:xfrm>
          <a:prstGeom prst="wedgeRoundRectCallout">
            <a:avLst>
              <a:gd name="adj1" fmla="val -44013"/>
              <a:gd name="adj2" fmla="val 19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выберите шрифт к выделенному тексту: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L Broadway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rcRect l="22554" t="12031" r="25403" b="12145"/>
          <a:stretch/>
        </p:blipFill>
        <p:spPr>
          <a:xfrm>
            <a:off x="3963960" y="1363680"/>
            <a:ext cx="4759200" cy="520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rcRect l="33628" t="65417" r="32990" b="27087"/>
          <a:stretch/>
        </p:blipFill>
        <p:spPr>
          <a:xfrm>
            <a:off x="4762440" y="5288040"/>
            <a:ext cx="3052800" cy="515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5313" t="36063" r="54221" b="61764"/>
          <a:stretch/>
        </p:blipFill>
        <p:spPr>
          <a:xfrm>
            <a:off x="4218120" y="3003480"/>
            <a:ext cx="1871640" cy="149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5"/>
          <a:srcRect l="11371" t="28976" r="63736" b="63584"/>
          <a:stretch/>
        </p:blipFill>
        <p:spPr>
          <a:xfrm>
            <a:off x="573120" y="1666800"/>
            <a:ext cx="2276280" cy="51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6"/>
          <a:srcRect l="21581" t="4025" r="72958" b="93461"/>
          <a:stretch/>
        </p:blipFill>
        <p:spPr>
          <a:xfrm>
            <a:off x="1981080" y="270000"/>
            <a:ext cx="5000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rcRect l="10975" t="27420" r="56862" b="63584"/>
          <a:stretch/>
        </p:blipFill>
        <p:spPr>
          <a:xfrm>
            <a:off x="519120" y="1560600"/>
            <a:ext cx="2941560" cy="61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rcRect l="24118" t="8391" r="24118" b="16372"/>
          <a:stretch/>
        </p:blipFill>
        <p:spPr>
          <a:xfrm>
            <a:off x="3962520" y="1382760"/>
            <a:ext cx="4733640" cy="51512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чертание – курси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1845" t="25946" r="35418" b="71811"/>
          <a:stretch/>
        </p:blipFill>
        <p:spPr>
          <a:xfrm>
            <a:off x="6505560" y="2579760"/>
            <a:ext cx="116532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rcRect l="23924" t="8353" r="24118" b="16088"/>
          <a:stretch/>
        </p:blipFill>
        <p:spPr>
          <a:xfrm>
            <a:off x="3943440" y="1360440"/>
            <a:ext cx="47512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змер –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9122" t="27874" r="28889" b="69978"/>
          <a:stretch/>
        </p:blipFill>
        <p:spPr>
          <a:xfrm>
            <a:off x="8085240" y="2717640"/>
            <a:ext cx="182520" cy="14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4"/>
          <a:srcRect l="5102" t="25871" r="63736" b="68076"/>
          <a:stretch/>
        </p:blipFill>
        <p:spPr>
          <a:xfrm>
            <a:off x="609480" y="1614600"/>
            <a:ext cx="284976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rcRect l="23924" t="8630" r="24132" b="16334"/>
          <a:stretch/>
        </p:blipFill>
        <p:spPr>
          <a:xfrm>
            <a:off x="3944880" y="1380960"/>
            <a:ext cx="4749840" cy="51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rcRect l="9411" t="29014" r="67657" b="64164"/>
          <a:stretch/>
        </p:blipFill>
        <p:spPr>
          <a:xfrm>
            <a:off x="555480" y="1614600"/>
            <a:ext cx="2097360" cy="4683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995400" y="279360"/>
            <a:ext cx="6324480" cy="843120"/>
          </a:xfrm>
          <a:prstGeom prst="wedgeRoundRectCallout">
            <a:avLst>
              <a:gd name="adj1" fmla="val -27837"/>
              <a:gd name="adj2" fmla="val -15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 Вас получается очень даже неплохо. Подтверд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4207" t="79112" r="36495" b="18186"/>
          <a:stretch/>
        </p:blipFill>
        <p:spPr>
          <a:xfrm>
            <a:off x="6715080" y="6211800"/>
            <a:ext cx="85104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rcRect l="36859" t="66362" r="33925" b="27301"/>
          <a:stretch/>
        </p:blipFill>
        <p:spPr>
          <a:xfrm>
            <a:off x="590400" y="1665360"/>
            <a:ext cx="2671920" cy="4348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995400" y="279360"/>
            <a:ext cx="6324480" cy="573120"/>
          </a:xfrm>
          <a:prstGeom prst="wedgeRoundRectCallout">
            <a:avLst>
              <a:gd name="adj1" fmla="val -27837"/>
              <a:gd name="adj2" fmla="val 4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Продолжаем зан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900000" y="2060640"/>
            <a:ext cx="7415280" cy="2448000"/>
          </a:xfrm>
          <a:prstGeom prst="wedgeRoundRectCallout">
            <a:avLst>
              <a:gd name="adj1" fmla="val -31523"/>
              <a:gd name="adj2" fmla="val 42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ем вставить рамку на Ваш лист. В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такая возможность. Что для этого надо сделать? Щёлкаем по кнопке «Формат» в строке меню. В появившемся меню щёлкаем по «Границы и заливка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ждё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8" name="AutoShape 10"/>
          <p:cNvSpPr/>
          <p:nvPr/>
        </p:nvSpPr>
        <p:spPr>
          <a:xfrm rot="13985400">
            <a:off x="2324520" y="3304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 rot="13985400">
            <a:off x="3597840" y="8326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16000" y="225360"/>
            <a:ext cx="6372000" cy="1008000"/>
          </a:xfrm>
          <a:prstGeom prst="wedgeRoundRectCallout">
            <a:avLst>
              <a:gd name="adj1" fmla="val -14101"/>
              <a:gd name="adj2" fmla="val -1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ка не появится окно «Границы и заливка». На вкладке «Страница» щёлкаем по «Рамка». Выбираем тип или рисунок, цвет. 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3" name="AutoShape 9"/>
          <p:cNvSpPr/>
          <p:nvPr/>
        </p:nvSpPr>
        <p:spPr>
          <a:xfrm rot="8747400">
            <a:off x="2881080" y="13348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 rot="8747400">
            <a:off x="1913040" y="264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 rot="8747400">
            <a:off x="4567320" y="24458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 rot="8747400">
            <a:off x="4565520" y="4633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 rot="8747400">
            <a:off x="4584240" y="355896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 rot="8747400">
            <a:off x="6273720" y="5204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rcRect l="21250" t="3307" r="72452" b="93046"/>
          <a:stretch/>
        </p:blipFill>
        <p:spPr>
          <a:xfrm>
            <a:off x="1943280" y="225360"/>
            <a:ext cx="576000" cy="25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rcRect l="21581" t="6784" r="57868" b="73304"/>
          <a:stretch/>
        </p:blipFill>
        <p:spPr>
          <a:xfrm>
            <a:off x="2023920" y="460440"/>
            <a:ext cx="1879920" cy="136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21581" t="10205" r="57868" b="86261"/>
          <a:stretch/>
        </p:blipFill>
        <p:spPr>
          <a:xfrm>
            <a:off x="2025720" y="696960"/>
            <a:ext cx="1879560" cy="243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8"/>
          <p:cNvSpPr/>
          <p:nvPr/>
        </p:nvSpPr>
        <p:spPr>
          <a:xfrm>
            <a:off x="555480" y="3255840"/>
            <a:ext cx="8062920" cy="1656000"/>
          </a:xfrm>
          <a:prstGeom prst="wedgeRoundRectCallout">
            <a:avLst>
              <a:gd name="adj1" fmla="val -16055"/>
              <a:gd name="adj2" fmla="val -205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опрактиковаться. Вспомните, что было в предыдущей странице. Задание: вставить в лист рамку с «яблочным» рисунком. Попробуйте это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>
            <a:hlinkClick r:id="" action="ppaction://hlinkshowjump?jump=nextslide"/>
          </p:cNvPr>
          <p:cNvPicPr/>
          <p:nvPr/>
        </p:nvPicPr>
        <p:blipFill>
          <a:blip r:embed="rId2"/>
          <a:srcRect l="24689" t="23786" r="68163" b="73279"/>
          <a:stretch/>
        </p:blipFill>
        <p:spPr>
          <a:xfrm>
            <a:off x="2278080" y="1627200"/>
            <a:ext cx="654120" cy="2016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/>
          <p:cNvSpPr/>
          <p:nvPr/>
        </p:nvSpPr>
        <p:spPr>
          <a:xfrm>
            <a:off x="1363680" y="249120"/>
            <a:ext cx="6337440" cy="905040"/>
          </a:xfrm>
          <a:prstGeom prst="wedgeRoundRectCallout">
            <a:avLst>
              <a:gd name="adj1" fmla="val -17009"/>
              <a:gd name="adj2" fmla="val -7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плохо для начинающего! Продолжайте в том же 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755640" y="836640"/>
            <a:ext cx="7704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Азы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WORD'а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4500720" y="4005360"/>
            <a:ext cx="435600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(мультимедийный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учебник для начинающих)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rcRect l="18732" t="40328" r="76392" b="52598"/>
          <a:stretch/>
        </p:blipFill>
        <p:spPr>
          <a:xfrm>
            <a:off x="1714680" y="2762280"/>
            <a:ext cx="446040" cy="485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rcRect l="15836" t="18444" r="16058" b="14740"/>
          <a:stretch/>
        </p:blipFill>
        <p:spPr>
          <a:xfrm>
            <a:off x="1455840" y="1273320"/>
            <a:ext cx="6227640" cy="4584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49974" t="72063" r="48609" b="25216"/>
          <a:stretch/>
        </p:blipFill>
        <p:spPr>
          <a:xfrm>
            <a:off x="4578480" y="4957920"/>
            <a:ext cx="128520" cy="193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/>
          <p:cNvSpPr/>
          <p:nvPr/>
        </p:nvSpPr>
        <p:spPr>
          <a:xfrm>
            <a:off x="861840" y="249120"/>
            <a:ext cx="5254920" cy="498600"/>
          </a:xfrm>
          <a:prstGeom prst="wedgeRoundRectCallout">
            <a:avLst>
              <a:gd name="adj1" fmla="val -666"/>
              <a:gd name="adj2" fmla="val 27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, продолжаем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34171" t="51326" r="50210" b="45027"/>
          <a:stretch/>
        </p:blipFill>
        <p:spPr>
          <a:xfrm>
            <a:off x="3125880" y="3522600"/>
            <a:ext cx="1428480" cy="250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61840" y="249120"/>
            <a:ext cx="6413760" cy="455760"/>
          </a:xfrm>
          <a:prstGeom prst="wedgeRoundRectCallout">
            <a:avLst>
              <a:gd name="adj1" fmla="val -9578"/>
              <a:gd name="adj2" fmla="val 346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«яблочную» рам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>
            <a:hlinkClick r:id="" action="ppaction://hlinkshowjump?jump=nextslide"/>
          </p:cNvPr>
          <p:cNvPicPr/>
          <p:nvPr/>
        </p:nvPicPr>
        <p:blipFill>
          <a:blip r:embed="rId3"/>
          <a:srcRect l="62432" t="79389" r="27675" b="16592"/>
          <a:stretch/>
        </p:blipFill>
        <p:spPr>
          <a:xfrm>
            <a:off x="5710320" y="5454720"/>
            <a:ext cx="904680" cy="2761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7"/>
          <p:cNvSpPr/>
          <p:nvPr/>
        </p:nvSpPr>
        <p:spPr>
          <a:xfrm>
            <a:off x="861840" y="249120"/>
            <a:ext cx="6413760" cy="779760"/>
          </a:xfrm>
          <a:prstGeom prst="wedgeRoundRectCallout">
            <a:avLst>
              <a:gd name="adj1" fmla="val -9578"/>
              <a:gd name="adj2" fmla="val -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Хорошо, всё готово для вставки рамки.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1187280" y="3094200"/>
            <a:ext cx="6413760" cy="820440"/>
          </a:xfrm>
          <a:prstGeom prst="wedgeRoundRectCallout">
            <a:avLst>
              <a:gd name="adj1" fmla="val -41907"/>
              <a:gd name="adj2" fmla="val -181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вот и Ваша «яблочная» рамка. Готово. Надеюсь, Вы запомнили вс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1079640" y="3094200"/>
            <a:ext cx="7167600" cy="2366640"/>
          </a:xfrm>
          <a:prstGeom prst="wedgeRoundRectCallout">
            <a:avLst>
              <a:gd name="adj1" fmla="val -27495"/>
              <a:gd name="adj2" fmla="val -37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я научу Вас, как вставля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это такая цветная и объёмная надпись. Скоро Вы увидите всё Сами. Итак, маршрут: «Вставка» - «Рисунок» - «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». Или щёлкаем по значку «Доб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13327800">
            <a:off x="2171520" y="1149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13327800">
            <a:off x="4551120" y="19728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rot="13327800">
            <a:off x="4344840" y="61272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 rot="13350600">
            <a:off x="1601280" y="3394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5" repeatCount="3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4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349360" y="1905120"/>
            <a:ext cx="4786560" cy="4070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/>
          <p:cNvSpPr/>
          <p:nvPr/>
        </p:nvSpPr>
        <p:spPr>
          <a:xfrm>
            <a:off x="690480" y="612720"/>
            <a:ext cx="7167600" cy="843120"/>
          </a:xfrm>
          <a:prstGeom prst="wedgeRoundRectCallout">
            <a:avLst>
              <a:gd name="adj1" fmla="val -13013"/>
              <a:gd name="adj2" fmla="val 283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Коллекция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Выбираете стиль и щёлкаете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77" name="AutoShape 8"/>
          <p:cNvSpPr/>
          <p:nvPr/>
        </p:nvSpPr>
        <p:spPr>
          <a:xfrm rot="13327800">
            <a:off x="2781000" y="2744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 rot="13327800">
            <a:off x="5829120" y="5721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rcRect l="19568" t="23257" r="18089" b="23118"/>
          <a:stretch/>
        </p:blipFill>
        <p:spPr>
          <a:xfrm>
            <a:off x="1649520" y="2081160"/>
            <a:ext cx="5700600" cy="36799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Изменение текста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вводим нужный текст, выбираем шрифт, размер, начертание.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rcRect l="19568" t="23257" r="17867" b="22835"/>
          <a:stretch/>
        </p:blipFill>
        <p:spPr>
          <a:xfrm>
            <a:off x="1698480" y="2120760"/>
            <a:ext cx="5721480" cy="3699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нашем случае введён текст «Учимся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(Жирный шриф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rial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размер - 36). Остаётся щёлкнуть по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6"/>
          <p:cNvSpPr/>
          <p:nvPr/>
        </p:nvSpPr>
        <p:spPr>
          <a:xfrm>
            <a:off x="474840" y="738360"/>
            <a:ext cx="7705440" cy="896760"/>
          </a:xfrm>
          <a:prstGeom prst="wedgeRoundRectCallout">
            <a:avLst>
              <a:gd name="adj1" fmla="val -12791"/>
              <a:gd name="adj2" fmla="val 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Надпись вставлена. Изменять размеры можно перетаскивая квадратики, выделяющие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 rot="3231600">
            <a:off x="1224720" y="25470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 rot="3231600">
            <a:off x="4019760" y="25470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 rot="3231600">
            <a:off x="6855120" y="25120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 rot="3231600">
            <a:off x="1188360" y="3550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 rot="3231600">
            <a:off x="1205640" y="44823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2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457200" y="738360"/>
            <a:ext cx="7723080" cy="1614240"/>
          </a:xfrm>
          <a:prstGeom prst="wedgeRoundRectCallout">
            <a:avLst>
              <a:gd name="adj1" fmla="val -12652"/>
              <a:gd name="adj2" fmla="val -16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стараемся закрасить эту надпись. Для этого щёлкаем по кнопке «Цвет заливки», выбираем цвет или строку «Способы заливки». Выберем «Способы залив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01" name="AutoShape 9"/>
          <p:cNvSpPr/>
          <p:nvPr/>
        </p:nvSpPr>
        <p:spPr>
          <a:xfrm rot="13984200">
            <a:off x="5063400" y="60789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 rot="13984200">
            <a:off x="6300000" y="58820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evt="end">
                                        <p:tn val="321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826920" y="72864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так, начнём занятие. Во-первых, необходимо открыть программу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 Есть несколько способов. Мы рассмотрим один из них: щёлкаем левой кнопкой мыши по кнопке «Пуск» - «Программы» - 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». Запомнили? Сейчас проверим.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AutoShape 9"/>
          <p:cNvSpPr/>
          <p:nvPr/>
        </p:nvSpPr>
        <p:spPr>
          <a:xfrm rot="8747400">
            <a:off x="358560" y="612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8747400">
            <a:off x="1692000" y="360828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 rot="8747400">
            <a:off x="3924000" y="468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7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rcRect l="26390" t="15874" r="25540" b="23395"/>
          <a:stretch/>
        </p:blipFill>
        <p:spPr>
          <a:xfrm>
            <a:off x="2395440" y="2317680"/>
            <a:ext cx="4395960" cy="4167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/>
          <p:cNvSpPr/>
          <p:nvPr/>
        </p:nvSpPr>
        <p:spPr>
          <a:xfrm>
            <a:off x="241200" y="272880"/>
            <a:ext cx="7383600" cy="1936800"/>
          </a:xfrm>
          <a:prstGeom prst="wedgeRoundRectCallout">
            <a:avLst>
              <a:gd name="adj1" fmla="val -8009"/>
              <a:gd name="adj2" fmla="val 16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Способы заливки» можно выбрать варианты заливки: «Градиентная», «Текстура», «Узор», «Рисунок». На вкладке «Градиентная» здесь выбрана заливка  «Ранний закат». Готово. Осталось только щёлкнуть по ОК, чтоб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/>
          <p:cNvSpPr/>
          <p:nvPr/>
        </p:nvSpPr>
        <p:spPr>
          <a:xfrm>
            <a:off x="509760" y="1133640"/>
            <a:ext cx="7383240" cy="1631880"/>
          </a:xfrm>
          <a:prstGeom prst="wedgeRoundRectCallout">
            <a:avLst>
              <a:gd name="adj1" fmla="val -11643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кст принял выбранную Вами заливку. Цвет сделали. Теперь нужно сделать объём. Для этого щёлкаем по кнопке «Объём». Появится меню. Выбираем нужный стиль (в нашем случае №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 rot="3045000">
            <a:off x="6658200" y="56664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3"/>
          <a:srcRect l="77729" t="55093" r="7242" b="12428"/>
          <a:stretch/>
        </p:blipFill>
        <p:spPr>
          <a:xfrm>
            <a:off x="7107120" y="3780000"/>
            <a:ext cx="1374840" cy="222876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14" name="AutoShape 11"/>
          <p:cNvSpPr/>
          <p:nvPr/>
        </p:nvSpPr>
        <p:spPr>
          <a:xfrm rot="3045000">
            <a:off x="6755040" y="47491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evt="end">
                                        <p:tn val="342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905040" y="1133640"/>
            <a:ext cx="7383240" cy="1631880"/>
          </a:xfrm>
          <a:prstGeom prst="wedgeRoundRectCallout">
            <a:avLst>
              <a:gd name="adj1" fmla="val -16995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ело сделано. Текст стал объёмным. А сейчас практика: Вам придётся проделать всё это самостоятельно, то есть вст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закрасить и придать ему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4"/>
          <a:srcRect l="15104" t="14854" r="67449" b="81310"/>
          <a:stretch/>
        </p:blipFill>
        <p:spPr>
          <a:xfrm>
            <a:off x="1417680" y="1027080"/>
            <a:ext cx="159552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>
            <a:hlinkClick r:id="" action="ppaction://hlinkshowjump?jump=nextslide"/>
          </p:cNvPr>
          <p:cNvPicPr/>
          <p:nvPr/>
        </p:nvPicPr>
        <p:blipFill>
          <a:blip r:embed="rId5"/>
          <a:srcRect l="32536" t="26400" r="44985" b="69877"/>
          <a:stretch/>
        </p:blipFill>
        <p:spPr>
          <a:xfrm>
            <a:off x="3019320" y="1863720"/>
            <a:ext cx="2055960" cy="2556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2173320" y="3111480"/>
            <a:ext cx="4836960" cy="466920"/>
          </a:xfrm>
          <a:prstGeom prst="wedgeRoundRectCallout">
            <a:avLst>
              <a:gd name="adj1" fmla="val -39268"/>
              <a:gd name="adj2" fmla="val 714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начнё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6"/>
          <a:srcRect l="14688" t="3515" r="78736" b="93203"/>
          <a:stretch/>
        </p:blipFill>
        <p:spPr>
          <a:xfrm>
            <a:off x="1370160" y="236520"/>
            <a:ext cx="601560" cy="22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47031" t="87811" r="50366" b="8750"/>
          <a:stretch/>
        </p:blipFill>
        <p:spPr>
          <a:xfrm>
            <a:off x="4308480" y="6026040"/>
            <a:ext cx="23796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095560" y="1652760"/>
            <a:ext cx="4786200" cy="4070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rcRect l="24845" t="31654" r="67761" b="61159"/>
          <a:stretch/>
        </p:blipFill>
        <p:spPr>
          <a:xfrm>
            <a:off x="2263680" y="2316240"/>
            <a:ext cx="676440" cy="4935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404640" y="246240"/>
            <a:ext cx="5407200" cy="831600"/>
          </a:xfrm>
          <a:prstGeom prst="wedgeRoundRectCallout">
            <a:avLst>
              <a:gd name="adj1" fmla="val -18967"/>
              <a:gd name="adj2" fmla="val -15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ка всё идёт хорошо. Выберите левый верхний ст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">
            <a:hlinkClick r:id="" action="ppaction://hlinkshowjump?jump=nextslide"/>
          </p:cNvPr>
          <p:cNvPicPr/>
          <p:nvPr/>
        </p:nvPicPr>
        <p:blipFill>
          <a:blip r:embed="rId4"/>
          <a:srcRect l="53683" t="75131" r="36023" b="20082"/>
          <a:stretch/>
        </p:blipFill>
        <p:spPr>
          <a:xfrm>
            <a:off x="4890960" y="5289480"/>
            <a:ext cx="941400" cy="32868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9"/>
          <p:cNvSpPr/>
          <p:nvPr/>
        </p:nvSpPr>
        <p:spPr>
          <a:xfrm>
            <a:off x="2604960" y="1157400"/>
            <a:ext cx="6262920" cy="465120"/>
          </a:xfrm>
          <a:prstGeom prst="wedgeRoundRectCallout">
            <a:avLst>
              <a:gd name="adj1" fmla="val -5819"/>
              <a:gd name="adj2" fmla="val -1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тиль выбран,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rcRect l="19776" t="23691" r="18004" b="22954"/>
          <a:stretch/>
        </p:blipFill>
        <p:spPr>
          <a:xfrm>
            <a:off x="1708200" y="2354400"/>
            <a:ext cx="5689440" cy="366048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6"/>
          <p:cNvSpPr/>
          <p:nvPr/>
        </p:nvSpPr>
        <p:spPr>
          <a:xfrm>
            <a:off x="871560" y="246240"/>
            <a:ext cx="7480440" cy="1989000"/>
          </a:xfrm>
          <a:prstGeom prst="wedgeRoundRectCallout">
            <a:avLst>
              <a:gd name="adj1" fmla="val -27569"/>
              <a:gd name="adj2" fmla="val -35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, конечно, должен был быть текст «Текст надписи», на я Вам облегчил задание, вписав готовый. Тем более я учу Вас не печатать буквы, а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Шрифт тоже выбран. Вам осталось только подтвердить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1322" t="71729" r="29206" b="24183"/>
          <a:stretch/>
        </p:blipFill>
        <p:spPr>
          <a:xfrm>
            <a:off x="5508720" y="5657760"/>
            <a:ext cx="86652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871560" y="246240"/>
            <a:ext cx="7480440" cy="1196640"/>
          </a:xfrm>
          <a:prstGeom prst="wedgeRoundRectCallout">
            <a:avLst>
              <a:gd name="adj1" fmla="val -27569"/>
              <a:gd name="adj2" fmla="val -25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амечательно, Вы делаете успехи!                        Но надо ещё закрасить эти слова. Вспомните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 rot="3045000">
            <a:off x="4646880" y="54936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">
            <a:hlinkClick r:id="" action="ppaction://hlinkshowjump?jump=nextslide"/>
          </p:cNvPr>
          <p:cNvPicPr/>
          <p:nvPr/>
        </p:nvPicPr>
        <p:blipFill>
          <a:blip r:embed="rId3"/>
          <a:srcRect l="56007" t="87950" r="42519" b="8397"/>
          <a:stretch/>
        </p:blipFill>
        <p:spPr>
          <a:xfrm>
            <a:off x="5135400" y="6031080"/>
            <a:ext cx="1350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чень неплохо. Сейчас Вам надо открыть окно, где показаны способы зал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3409" t="83370" r="27014" b="12334"/>
          <a:stretch/>
        </p:blipFill>
        <p:spPr>
          <a:xfrm>
            <a:off x="4878360" y="5718240"/>
            <a:ext cx="1790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ё правильно. Попробуйте добраться до градиентной заливки «Ранний зак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3"/>
          <a:srcRect l="25885" t="20384" r="25696" b="18696"/>
          <a:stretch/>
        </p:blipFill>
        <p:spPr>
          <a:xfrm>
            <a:off x="2133720" y="1971720"/>
            <a:ext cx="4427280" cy="41799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9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 rot="3045000">
            <a:off x="1886400" y="3035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8752" t="42135" r="61964" b="54583"/>
          <a:stretch/>
        </p:blipFill>
        <p:spPr>
          <a:xfrm>
            <a:off x="2397240" y="3465360"/>
            <a:ext cx="849240" cy="2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4"/>
          <a:srcRect l="45854" t="36447" r="39689" b="59351"/>
          <a:stretch/>
        </p:blipFill>
        <p:spPr>
          <a:xfrm>
            <a:off x="3946680" y="3038400"/>
            <a:ext cx="1322280" cy="28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5"/>
          <a:srcRect l="46062" t="40258" r="39774" b="46299"/>
          <a:stretch/>
        </p:blipFill>
        <p:spPr>
          <a:xfrm>
            <a:off x="3959280" y="3321000"/>
            <a:ext cx="1295280" cy="922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46062" t="40258" r="41754" b="57405"/>
          <a:stretch/>
        </p:blipFill>
        <p:spPr>
          <a:xfrm>
            <a:off x="3986280" y="3338640"/>
            <a:ext cx="1114200" cy="16020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0"/>
          <p:cNvSpPr/>
          <p:nvPr/>
        </p:nvSpPr>
        <p:spPr>
          <a:xfrm>
            <a:off x="973080" y="1079640"/>
            <a:ext cx="7480440" cy="463320"/>
          </a:xfrm>
          <a:prstGeom prst="wedgeRoundRectCallout">
            <a:avLst>
              <a:gd name="adj1" fmla="val -28648"/>
              <a:gd name="adj2" fmla="val -49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«Ранний закат». Выбер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0" t="38431" r="71271" b="3843"/>
          <a:stretch/>
        </p:blipFill>
        <p:spPr>
          <a:xfrm>
            <a:off x="0" y="2637000"/>
            <a:ext cx="26272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rcRect l="2683" t="55830" r="71281" b="37140"/>
          <a:stretch/>
        </p:blipFill>
        <p:spPr>
          <a:xfrm>
            <a:off x="250920" y="3824280"/>
            <a:ext cx="23763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rcRect l="0" t="96164" r="92521" b="44"/>
          <a:stretch/>
        </p:blipFill>
        <p:spPr>
          <a:xfrm>
            <a:off x="0" y="6597720"/>
            <a:ext cx="684360" cy="26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5"/>
          <a:srcRect l="27552" t="56271" r="49601" b="19068"/>
          <a:stretch/>
        </p:blipFill>
        <p:spPr>
          <a:xfrm>
            <a:off x="2519280" y="3860640"/>
            <a:ext cx="2089080" cy="16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552" t="73606" r="49601" b="22746"/>
          <a:stretch/>
        </p:blipFill>
        <p:spPr>
          <a:xfrm>
            <a:off x="2519280" y="5049720"/>
            <a:ext cx="2089080" cy="250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826920" y="333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ейчас попробуйте Сами открыть документ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из вариантов штриховки выберите левый ниж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4"/>
          <a:srcRect l="46965" t="64554" r="46653" b="27420"/>
          <a:stretch/>
        </p:blipFill>
        <p:spPr>
          <a:xfrm>
            <a:off x="4025880" y="4960800"/>
            <a:ext cx="584280" cy="551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/>
          <a:srcRect l="26215" t="20428" r="25332" b="18211"/>
          <a:stretch/>
        </p:blipFill>
        <p:spPr>
          <a:xfrm>
            <a:off x="2135160" y="1932120"/>
            <a:ext cx="4430880" cy="420984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1"/>
          <p:cNvSpPr/>
          <p:nvPr/>
        </p:nvSpPr>
        <p:spPr>
          <a:xfrm>
            <a:off x="5807160" y="3778200"/>
            <a:ext cx="2114640" cy="830160"/>
          </a:xfrm>
          <a:prstGeom prst="wedgeRoundRectCallout">
            <a:avLst>
              <a:gd name="adj1" fmla="val -16893"/>
              <a:gd name="adj2" fmla="val -2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2" descr="">
            <a:hlinkClick r:id="" action="ppaction://hlinkshowjump?jump=nextslide"/>
          </p:cNvPr>
          <p:cNvPicPr/>
          <p:nvPr/>
        </p:nvPicPr>
        <p:blipFill>
          <a:blip r:embed="rId6"/>
          <a:srcRect l="63859" t="28901" r="26423" b="66872"/>
          <a:stretch/>
        </p:blipFill>
        <p:spPr>
          <a:xfrm>
            <a:off x="5572080" y="2509920"/>
            <a:ext cx="8892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973080" y="692280"/>
            <a:ext cx="7642440" cy="1643040"/>
          </a:xfrm>
          <a:prstGeom prst="wedgeRoundRectCallout">
            <a:avLst>
              <a:gd name="adj1" fmla="val -29101"/>
              <a:gd name="adj2" fmla="val -262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т и всё. Теперь, надеюсь, Вы сможете задать заливку Объекту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Этим же способом можно также закрасить прямоугольники, овалы, автофигуры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теперь пришло время поработать над объёмом. Постарайтесь вспомнить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">
            <a:hlinkClick r:id="" action="ppaction://hlinkshowjump?jump=nextslide"/>
          </p:cNvPr>
          <p:cNvPicPr/>
          <p:nvPr/>
        </p:nvPicPr>
        <p:blipFill>
          <a:blip r:embed="rId3"/>
          <a:srcRect l="77744" t="87906" r="19601" b="8561"/>
          <a:stretch/>
        </p:blipFill>
        <p:spPr>
          <a:xfrm>
            <a:off x="7110360" y="6026040"/>
            <a:ext cx="243000" cy="243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0"/>
          <p:cNvSpPr/>
          <p:nvPr/>
        </p:nvSpPr>
        <p:spPr>
          <a:xfrm rot="3045000">
            <a:off x="6688440" y="56203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5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. В меню выберите  стиль 13 – второй снизу в левом ря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"/>
          <p:cNvPicPr/>
          <p:nvPr/>
        </p:nvPicPr>
        <p:blipFill>
          <a:blip r:embed="rId3"/>
          <a:srcRect l="77678" t="54980" r="6874" b="12076"/>
          <a:stretch/>
        </p:blipFill>
        <p:spPr>
          <a:xfrm>
            <a:off x="7102440" y="3772080"/>
            <a:ext cx="1413000" cy="2260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78821" t="73304" r="17811" b="22072"/>
          <a:stretch/>
        </p:blipFill>
        <p:spPr>
          <a:xfrm>
            <a:off x="7205760" y="5046840"/>
            <a:ext cx="307800" cy="3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1009800" y="1319040"/>
            <a:ext cx="7408800" cy="554040"/>
          </a:xfrm>
          <a:prstGeom prst="wedgeRoundRectCallout">
            <a:avLst>
              <a:gd name="adj1" fmla="val -27500"/>
              <a:gd name="adj2" fmla="val -18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ы справились и с этим. Текст принял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89" name="WordArt 9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6"/>
          <p:cNvSpPr/>
          <p:nvPr/>
        </p:nvSpPr>
        <p:spPr>
          <a:xfrm>
            <a:off x="824040" y="2500200"/>
            <a:ext cx="7600680" cy="1578240"/>
          </a:xfrm>
          <a:prstGeom prst="wedgeRoundRectCallout">
            <a:avLst>
              <a:gd name="adj1" fmla="val -24500"/>
              <a:gd name="adj2" fmla="val -22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должаем занятие. Сейчас я научу Вас вставлять картинки. Для этого щёлкаем по кнопке «Вставка» - «Рисунок» - «Картинки…» или по значку «Добавить картин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3"/>
          <a:srcRect l="27241" t="11635" r="54675" b="69997"/>
          <a:stretch/>
        </p:blipFill>
        <p:spPr>
          <a:xfrm>
            <a:off x="3157560" y="1006560"/>
            <a:ext cx="1654200" cy="1258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9"/>
          <p:cNvSpPr/>
          <p:nvPr/>
        </p:nvSpPr>
        <p:spPr>
          <a:xfrm rot="14240400">
            <a:off x="1539720" y="34884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 rot="14240400">
            <a:off x="2611440" y="11854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1"/>
          <p:cNvSpPr/>
          <p:nvPr/>
        </p:nvSpPr>
        <p:spPr>
          <a:xfrm rot="14240400">
            <a:off x="4404960" y="11725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 rot="14240400">
            <a:off x="4647960" y="605304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46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rcRect l="11858" t="8050" r="11858" b="15969"/>
          <a:stretch/>
        </p:blipFill>
        <p:spPr>
          <a:xfrm>
            <a:off x="979560" y="1382760"/>
            <a:ext cx="6975360" cy="521316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6"/>
          <p:cNvSpPr/>
          <p:nvPr/>
        </p:nvSpPr>
        <p:spPr>
          <a:xfrm>
            <a:off x="463680" y="268200"/>
            <a:ext cx="6943680" cy="1130400"/>
          </a:xfrm>
          <a:prstGeom prst="wedgeRoundRectCallout">
            <a:avLst>
              <a:gd name="adj1" fmla="val -10152"/>
              <a:gd name="adj2" fmla="val 370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Вставка картинки». Выбираете нужную категорию, например, «Животные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3" name="AutoShape 8"/>
          <p:cNvSpPr/>
          <p:nvPr/>
        </p:nvSpPr>
        <p:spPr>
          <a:xfrm rot="14240400">
            <a:off x="4252680" y="492228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3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6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потом выбираем клипы. Щёлкаем по нужному левой кнопкой м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8" name="AutoShape 8"/>
          <p:cNvSpPr/>
          <p:nvPr/>
        </p:nvSpPr>
        <p:spPr>
          <a:xfrm rot="14240400">
            <a:off x="1993680" y="411480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7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меню щёлкаем по верхнему значку и закрываем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/>
          <p:cNvSpPr/>
          <p:nvPr/>
        </p:nvSpPr>
        <p:spPr>
          <a:xfrm rot="14240400">
            <a:off x="2778120" y="39049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 rot="14240400">
            <a:off x="7678440" y="161928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evt="end">
                                        <p:tn val="483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evt="end">
                                        <p:tn val="490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6"/>
          <p:cNvSpPr/>
          <p:nvPr/>
        </p:nvSpPr>
        <p:spPr>
          <a:xfrm>
            <a:off x="3668760" y="2139840"/>
            <a:ext cx="4730760" cy="514440"/>
          </a:xfrm>
          <a:prstGeom prst="wedgeRoundRectCallout">
            <a:avLst>
              <a:gd name="adj1" fmla="val -37685"/>
              <a:gd name="adj2" fmla="val -24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Рисунок встав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755640" y="1952640"/>
            <a:ext cx="7561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здравляю! Если Вы видите этот слайд, значит всё сделали правильно. Так вот, это и есть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 Он используется для обработки текстовых документов с использованием рисунков, таблиц, объёмных текстов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и многого другого, а также создания простейших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eb-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так, продолжим знакомство с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5"/>
          <p:cNvSpPr/>
          <p:nvPr/>
        </p:nvSpPr>
        <p:spPr>
          <a:xfrm>
            <a:off x="1251000" y="2927520"/>
            <a:ext cx="6627600" cy="892080"/>
          </a:xfrm>
          <a:prstGeom prst="wedgeRoundRectCallout">
            <a:avLst>
              <a:gd name="adj1" fmla="val -12777"/>
              <a:gd name="adj2" fmla="val 3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рактики. Попробуйте вставить рисунок ль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2"/>
          <a:srcRect l="14896" t="3654" r="78703" b="93524"/>
          <a:stretch/>
        </p:blipFill>
        <p:spPr>
          <a:xfrm>
            <a:off x="1363680" y="252360"/>
            <a:ext cx="585720" cy="193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4"/>
          <a:srcRect l="27241" t="11635" r="54675" b="69997"/>
          <a:stretch/>
        </p:blipFill>
        <p:spPr>
          <a:xfrm>
            <a:off x="3138480" y="1023840"/>
            <a:ext cx="1654200" cy="1258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5"/>
          <a:srcRect l="15382" t="15156" r="67941" b="81424"/>
          <a:stretch/>
        </p:blipFill>
        <p:spPr>
          <a:xfrm>
            <a:off x="1598760" y="1027080"/>
            <a:ext cx="1525320" cy="235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241" t="11912" r="54675" b="84668"/>
          <a:stretch/>
        </p:blipFill>
        <p:spPr>
          <a:xfrm>
            <a:off x="3133800" y="1036800"/>
            <a:ext cx="1654200" cy="234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50002" t="88019" r="47659" b="8957"/>
          <a:stretch/>
        </p:blipFill>
        <p:spPr>
          <a:xfrm>
            <a:off x="4573440" y="6046920"/>
            <a:ext cx="21456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2"/>
          <a:srcRect l="11858" t="8050" r="11858" b="16592"/>
          <a:stretch/>
        </p:blipFill>
        <p:spPr>
          <a:xfrm>
            <a:off x="1063800" y="1106640"/>
            <a:ext cx="6975360" cy="51703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/>
          <p:cNvSpPr/>
          <p:nvPr/>
        </p:nvSpPr>
        <p:spPr>
          <a:xfrm>
            <a:off x="606600" y="331920"/>
            <a:ext cx="6389640" cy="514080"/>
          </a:xfrm>
          <a:prstGeom prst="wedgeRoundRectCallout">
            <a:avLst>
              <a:gd name="adj1" fmla="val 2722"/>
              <a:gd name="adj2" fmla="val -33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ев находится в категории «Животн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41688" t="49770" r="49601" b="38620"/>
          <a:stretch/>
        </p:blipFill>
        <p:spPr>
          <a:xfrm>
            <a:off x="3789360" y="3976560"/>
            <a:ext cx="797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6"/>
          <p:cNvSpPr/>
          <p:nvPr/>
        </p:nvSpPr>
        <p:spPr>
          <a:xfrm>
            <a:off x="606600" y="331920"/>
            <a:ext cx="6348240" cy="834840"/>
          </a:xfrm>
          <a:prstGeom prst="wedgeRoundRectCallout">
            <a:avLst>
              <a:gd name="adj1" fmla="val 3064"/>
              <a:gd name="adj2" fmla="val -21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ам не отказать в сообразительности. Продолж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14201" t="34104" r="73303" b="48983"/>
          <a:stretch/>
        </p:blipFill>
        <p:spPr>
          <a:xfrm>
            <a:off x="1192320" y="3168720"/>
            <a:ext cx="11430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3"/>
          <a:srcRect l="27623" t="42255" r="66963" b="53008"/>
          <a:stretch/>
        </p:blipFill>
        <p:spPr>
          <a:xfrm>
            <a:off x="2446200" y="3754440"/>
            <a:ext cx="495360" cy="325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85440" t="9512" r="12708" b="88157"/>
          <a:stretch/>
        </p:blipFill>
        <p:spPr>
          <a:xfrm>
            <a:off x="7726320" y="1501920"/>
            <a:ext cx="169920" cy="16020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8"/>
          <p:cNvSpPr/>
          <p:nvPr/>
        </p:nvSpPr>
        <p:spPr>
          <a:xfrm>
            <a:off x="3944880" y="3328920"/>
            <a:ext cx="3564000" cy="878040"/>
          </a:xfrm>
          <a:prstGeom prst="wedgeRoundRectCallout">
            <a:avLst>
              <a:gd name="adj1" fmla="val -14587"/>
              <a:gd name="adj2" fmla="val 4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исунок вставлен. Закройте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7"/>
          <p:cNvSpPr/>
          <p:nvPr/>
        </p:nvSpPr>
        <p:spPr>
          <a:xfrm>
            <a:off x="3621240" y="3328920"/>
            <a:ext cx="4929120" cy="2332080"/>
          </a:xfrm>
          <a:prstGeom prst="wedgeRoundRectCallout">
            <a:avLst>
              <a:gd name="adj1" fmla="val -17824"/>
              <a:gd name="adj2" fmla="val -2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перь Вы можете всё! Кстати, этим же способом можно вставить рисунок из файла, то есть рисунок, который Вы сами нарисовали или скопировали. Попробу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7"/>
          <p:cNvSpPr/>
          <p:nvPr/>
        </p:nvSpPr>
        <p:spPr>
          <a:xfrm>
            <a:off x="1539720" y="3328920"/>
            <a:ext cx="6255000" cy="914400"/>
          </a:xfrm>
          <a:prstGeom prst="wedgeRoundRectCallout">
            <a:avLst>
              <a:gd name="adj1" fmla="val 5458"/>
              <a:gd name="adj2" fmla="val 1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от же принцип работы. Маршрут: «Вставка» - «Рисунок» - «Из файл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49" name="AutoShape 9"/>
          <p:cNvSpPr/>
          <p:nvPr/>
        </p:nvSpPr>
        <p:spPr>
          <a:xfrm rot="14240400">
            <a:off x="1715760" y="3963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rot="14240400">
            <a:off x="2746080" y="119160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rot="14240400">
            <a:off x="4433400" y="139320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evt="end">
                                        <p:tn val="525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5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evt="end">
                                        <p:tn val="545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7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0" descr="Каб"/>
          <p:cNvPicPr/>
          <p:nvPr/>
        </p:nvPicPr>
        <p:blipFill>
          <a:blip r:embed="rId3"/>
          <a:stretch/>
        </p:blipFill>
        <p:spPr>
          <a:xfrm>
            <a:off x="5145120" y="2557440"/>
            <a:ext cx="2957400" cy="2219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"/>
          <p:cNvPicPr/>
          <p:nvPr/>
        </p:nvPicPr>
        <p:blipFill>
          <a:blip r:embed="rId5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"/>
          <p:cNvPicPr/>
          <p:nvPr/>
        </p:nvPicPr>
        <p:blipFill>
          <a:blip r:embed="rId6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"/>
          <p:cNvPicPr/>
          <p:nvPr/>
        </p:nvPicPr>
        <p:blipFill>
          <a:blip r:embed="rId7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8"/>
          <p:cNvSpPr/>
          <p:nvPr/>
        </p:nvSpPr>
        <p:spPr>
          <a:xfrm>
            <a:off x="268200" y="266760"/>
            <a:ext cx="7248600" cy="1219320"/>
          </a:xfrm>
          <a:prstGeom prst="wedgeRoundRectCallout">
            <a:avLst>
              <a:gd name="adj1" fmla="val 13930"/>
              <a:gd name="adj2" fmla="val -11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Добавить рисунок» выбираем нужный и щёлкаем «Вставка» (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 умолчанию открывается папка «Мои документы»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9"/>
          <p:cNvSpPr/>
          <p:nvPr/>
        </p:nvSpPr>
        <p:spPr>
          <a:xfrm rot="14240400">
            <a:off x="2501640" y="288396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 rot="14240400">
            <a:off x="7742160" y="54241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evt="end">
                                        <p:tn val="568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Каб"/>
          <p:cNvPicPr/>
          <p:nvPr/>
        </p:nvPicPr>
        <p:blipFill>
          <a:blip r:embed="rId2"/>
          <a:stretch/>
        </p:blipFill>
        <p:spPr>
          <a:xfrm>
            <a:off x="1290600" y="2270160"/>
            <a:ext cx="4535640" cy="34034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6"/>
          <p:cNvSpPr/>
          <p:nvPr/>
        </p:nvSpPr>
        <p:spPr>
          <a:xfrm>
            <a:off x="2058840" y="660240"/>
            <a:ext cx="4991400" cy="520920"/>
          </a:xfrm>
          <a:prstGeom prst="wedgeRoundRectCallout">
            <a:avLst>
              <a:gd name="adj1" fmla="val 7666"/>
              <a:gd name="adj2" fmla="val -13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Фотография вставл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4"/>
          <a:srcRect l="15245" t="3584" r="78963" b="93550"/>
          <a:stretch/>
        </p:blipFill>
        <p:spPr>
          <a:xfrm>
            <a:off x="1382760" y="247680"/>
            <a:ext cx="530280" cy="196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5"/>
          <a:srcRect l="15104" t="15225" r="67449" b="81638"/>
          <a:stretch/>
        </p:blipFill>
        <p:spPr>
          <a:xfrm>
            <a:off x="1563840" y="1027080"/>
            <a:ext cx="1595160" cy="21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32674" t="22954" r="49554" b="73556"/>
          <a:stretch/>
        </p:blipFill>
        <p:spPr>
          <a:xfrm>
            <a:off x="3152880" y="1241280"/>
            <a:ext cx="1625400" cy="23976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10"/>
          <p:cNvSpPr/>
          <p:nvPr/>
        </p:nvSpPr>
        <p:spPr>
          <a:xfrm>
            <a:off x="1397160" y="2760840"/>
            <a:ext cx="6424560" cy="914400"/>
          </a:xfrm>
          <a:prstGeom prst="wedgeRoundRectCallout">
            <a:avLst>
              <a:gd name="adj1" fmla="val 12393"/>
              <a:gd name="adj2" fmla="val 2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попробуйте вставить Сами рисунок из фай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"/>
          <p:cNvPicPr/>
          <p:nvPr/>
        </p:nvPicPr>
        <p:blipFill>
          <a:blip r:embed="rId3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5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Каб"/>
          <p:cNvPicPr/>
          <p:nvPr/>
        </p:nvPicPr>
        <p:blipFill>
          <a:blip r:embed="rId7"/>
          <a:stretch/>
        </p:blipFill>
        <p:spPr>
          <a:xfrm>
            <a:off x="5121360" y="2556000"/>
            <a:ext cx="2994120" cy="224604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12"/>
          <p:cNvSpPr/>
          <p:nvPr/>
        </p:nvSpPr>
        <p:spPr>
          <a:xfrm>
            <a:off x="1074600" y="517680"/>
            <a:ext cx="7159680" cy="519120"/>
          </a:xfrm>
          <a:prstGeom prst="wedgeRoundRectCallout">
            <a:avLst>
              <a:gd name="adj1" fmla="val 9736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фотографию «Каб. ПДД.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jpg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/>
          <p:cNvSpPr/>
          <p:nvPr/>
        </p:nvSpPr>
        <p:spPr>
          <a:xfrm>
            <a:off x="826920" y="225360"/>
            <a:ext cx="6696360" cy="1332000"/>
          </a:xfrm>
          <a:prstGeom prst="wedgeRoundRectCallout">
            <a:avLst>
              <a:gd name="adj1" fmla="val -48814"/>
              <a:gd name="adj2" fmla="val 65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йте напечатать что-то, например, своё имя. Поставьте курсор здесь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(курсор – это такая чёрная мигающая палоч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863640" y="2421000"/>
            <a:ext cx="6696000" cy="2774880"/>
          </a:xfrm>
          <a:prstGeom prst="wedgeRoundRectCallout">
            <a:avLst>
              <a:gd name="adj1" fmla="val -28995"/>
              <a:gd name="adj2" fmla="val 18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 забывайте, что это всего лишь демонстрация, здесь печатать можно только в одну строчку. Для удаления символов используются кнопки:                  – для удаления символа слева от курсора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       аааааа  – для удаления символа справа от кур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67" name="Picture 15" descr=""/>
          <p:cNvPicPr/>
          <p:nvPr/>
        </p:nvPicPr>
        <p:blipFill>
          <a:blip r:embed="rId2"/>
          <a:srcRect l="10157" t="38047" r="13984" b="36157"/>
          <a:stretch/>
        </p:blipFill>
        <p:spPr>
          <a:xfrm>
            <a:off x="2630520" y="4386240"/>
            <a:ext cx="6249960" cy="1844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6"/>
          <p:cNvSpPr/>
          <p:nvPr/>
        </p:nvSpPr>
        <p:spPr>
          <a:xfrm>
            <a:off x="6543720" y="3657600"/>
            <a:ext cx="1650960" cy="44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290600" y="4446720"/>
            <a:ext cx="984240" cy="36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 rot="8747400">
            <a:off x="6675480" y="4471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0"/>
          <p:cNvSpPr/>
          <p:nvPr/>
        </p:nvSpPr>
        <p:spPr>
          <a:xfrm rot="8747400">
            <a:off x="7045200" y="47779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4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Каб"/>
          <p:cNvPicPr/>
          <p:nvPr/>
        </p:nvPicPr>
        <p:blipFill>
          <a:blip r:embed="rId2"/>
          <a:stretch/>
        </p:blipFill>
        <p:spPr>
          <a:xfrm>
            <a:off x="1166760" y="2173320"/>
            <a:ext cx="4640400" cy="348120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1809720" y="500040"/>
            <a:ext cx="5311800" cy="519120"/>
          </a:xfrm>
          <a:prstGeom prst="wedgeRoundRectCallout">
            <a:avLst>
              <a:gd name="adj1" fmla="val 8217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Вы и это смог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7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8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>
            <a:off x="1916280" y="2847960"/>
            <a:ext cx="5492520" cy="2403360"/>
          </a:xfrm>
          <a:prstGeom prst="wedgeRoundRectCallout">
            <a:avLst>
              <a:gd name="adj1" fmla="val 6300"/>
              <a:gd name="adj2" fmla="val -30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щё одна вещь, которую мы сейчас рассмотрим – это таблицы. Для работы с ними предусмотрена специальная кнопка в строке меню. Как вставить таблицу: «Таблица» - «Добавить» - «Табли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92" name="Picture 7" descr=""/>
          <p:cNvPicPr/>
          <p:nvPr/>
        </p:nvPicPr>
        <p:blipFill>
          <a:blip r:embed="rId2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3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4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10"/>
          <p:cNvSpPr/>
          <p:nvPr/>
        </p:nvSpPr>
        <p:spPr>
          <a:xfrm rot="14240400">
            <a:off x="3433320" y="3391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 rot="14240400">
            <a:off x="4295520" y="966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 rot="14240400">
            <a:off x="5962320" y="10011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evt="end">
                                        <p:tn val="602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61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evt="end">
                                        <p:tn val="614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evt="end">
                                        <p:tn val="624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762280" y="22748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6"/>
          <p:cNvSpPr/>
          <p:nvPr/>
        </p:nvSpPr>
        <p:spPr>
          <a:xfrm>
            <a:off x="965160" y="588960"/>
            <a:ext cx="7213680" cy="1631880"/>
          </a:xfrm>
          <a:prstGeom prst="wedgeRoundRectCallout">
            <a:avLst>
              <a:gd name="adj1" fmla="val 11268"/>
              <a:gd name="adj2" fmla="val 14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Вставка таблицы» в строках «Число столбцов» и «Число строк» вставляем необходимое их количество (в нашем случае 6 и 16 соответственно).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 rot="14240400">
            <a:off x="5943600" y="290160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 rot="14240400">
            <a:off x="5927760" y="32428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 rot="14240400">
            <a:off x="4706640" y="5430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evt="end">
                                        <p:tn val="634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evt="end">
                                        <p:tn val="648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2"/>
          <a:srcRect l="22412" t="29386" r="21486" b="25600"/>
          <a:stretch/>
        </p:blipFill>
        <p:spPr>
          <a:xfrm>
            <a:off x="1249200" y="2324160"/>
            <a:ext cx="6758280" cy="3294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6"/>
          <p:cNvSpPr/>
          <p:nvPr/>
        </p:nvSpPr>
        <p:spPr>
          <a:xfrm>
            <a:off x="965160" y="588960"/>
            <a:ext cx="7213680" cy="932040"/>
          </a:xfrm>
          <a:prstGeom prst="wedgeRoundRectCallout">
            <a:avLst>
              <a:gd name="adj1" fmla="val 11268"/>
              <a:gd name="adj2" fmla="val 6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Это и есть таблица. В её ячейки можно  вставлять текст, рисунок или другую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5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2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"/>
          <p:cNvPicPr/>
          <p:nvPr/>
        </p:nvPicPr>
        <p:blipFill>
          <a:blip r:embed="rId3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"/>
          <p:cNvPicPr/>
          <p:nvPr/>
        </p:nvPicPr>
        <p:blipFill>
          <a:blip r:embed="rId4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5"/>
          <a:srcRect l="33736" t="12214" r="48127" b="85014"/>
          <a:stretch/>
        </p:blipFill>
        <p:spPr>
          <a:xfrm>
            <a:off x="3073320" y="849240"/>
            <a:ext cx="1658880" cy="190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">
            <a:hlinkClick r:id="" action="ppaction://hlinkshowjump?jump=nextslide"/>
          </p:cNvPr>
          <p:cNvPicPr/>
          <p:nvPr/>
        </p:nvPicPr>
        <p:blipFill>
          <a:blip r:embed="rId6"/>
          <a:srcRect l="52157" t="12082" r="31790" b="85008"/>
          <a:stretch/>
        </p:blipFill>
        <p:spPr>
          <a:xfrm>
            <a:off x="4741920" y="863640"/>
            <a:ext cx="1468440" cy="20016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12"/>
          <p:cNvSpPr/>
          <p:nvPr/>
        </p:nvSpPr>
        <p:spPr>
          <a:xfrm>
            <a:off x="1000080" y="3027240"/>
            <a:ext cx="7213680" cy="932040"/>
          </a:xfrm>
          <a:prstGeom prst="wedgeRoundRectCallout">
            <a:avLst>
              <a:gd name="adj1" fmla="val 11532"/>
              <a:gd name="adj2" fmla="val -76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актикуемся. Попробуйте открыть окно «Вставка таблиц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3" descr=""/>
          <p:cNvPicPr/>
          <p:nvPr/>
        </p:nvPicPr>
        <p:blipFill>
          <a:blip r:embed="rId7"/>
          <a:srcRect l="33004" t="3496" r="59848" b="93159"/>
          <a:stretch/>
        </p:blipFill>
        <p:spPr>
          <a:xfrm>
            <a:off x="2978280" y="237960"/>
            <a:ext cx="653760" cy="2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6"/>
          <p:cNvSpPr/>
          <p:nvPr/>
        </p:nvSpPr>
        <p:spPr>
          <a:xfrm>
            <a:off x="1616040" y="795240"/>
            <a:ext cx="5746680" cy="527040"/>
          </a:xfrm>
          <a:prstGeom prst="wedgeRoundRectCallout">
            <a:avLst>
              <a:gd name="adj1" fmla="val 17263"/>
              <a:gd name="adj2" fmla="val 20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число столбцов – 7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7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">
            <a:hlinkClick r:id="" action="ppaction://hlinkshowjump?jump=nextslide"/>
          </p:cNvPr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8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число строк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5921280" y="2589120"/>
            <a:ext cx="2176560" cy="463680"/>
          </a:xfrm>
          <a:prstGeom prst="wedgeRoundRectCallout">
            <a:avLst>
              <a:gd name="adj1" fmla="val 4486"/>
              <a:gd name="adj2" fmla="val -58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3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464832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4653000" y="3062160"/>
            <a:ext cx="190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6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7" descr=""/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8" descr=""/>
          <p:cNvPicPr/>
          <p:nvPr/>
        </p:nvPicPr>
        <p:blipFill>
          <a:blip r:embed="rId5"/>
          <a:srcRect l="64676" t="39106" r="33873" b="59931"/>
          <a:stretch/>
        </p:blipFill>
        <p:spPr>
          <a:xfrm>
            <a:off x="5451480" y="3048120"/>
            <a:ext cx="133200" cy="66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rcRect l="64676" t="39106" r="33873" b="59931"/>
          <a:stretch/>
        </p:blipFill>
        <p:spPr>
          <a:xfrm>
            <a:off x="5450040" y="3051000"/>
            <a:ext cx="133200" cy="669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0" descr="">
            <a:hlinkClick r:id="" action="ppaction://hlinkshowjump?jump=nextslide"/>
          </p:cNvPr>
          <p:cNvPicPr/>
          <p:nvPr/>
        </p:nvPicPr>
        <p:blipFill>
          <a:blip r:embed="rId7"/>
          <a:srcRect l="43927" t="75477" r="45765" b="21865"/>
          <a:stretch/>
        </p:blipFill>
        <p:spPr>
          <a:xfrm>
            <a:off x="3552840" y="5245200"/>
            <a:ext cx="94284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71" descr=""/>
          <p:cNvPicPr/>
          <p:nvPr/>
        </p:nvPicPr>
        <p:blipFill>
          <a:blip r:embed="rId2"/>
          <a:srcRect l="4186" t="26028" r="6510" b="22161"/>
          <a:stretch/>
        </p:blipFill>
        <p:spPr>
          <a:xfrm>
            <a:off x="1106640" y="2125800"/>
            <a:ext cx="6995880" cy="304632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472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аблица вста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WordArt 47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6" name="Rectangle 5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399960" y="1144440"/>
            <a:ext cx="8366040" cy="266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с таблицам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исунков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0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1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21477" t="11332" r="57849" b="62602"/>
          <a:stretch/>
        </p:blipFill>
        <p:spPr>
          <a:xfrm>
            <a:off x="1968480" y="463680"/>
            <a:ext cx="1890720" cy="17888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539640" y="2664000"/>
            <a:ext cx="8147160" cy="2031840"/>
          </a:xfrm>
          <a:prstGeom prst="wedgeRoundRectCallout">
            <a:avLst>
              <a:gd name="adj1" fmla="val -35152"/>
              <a:gd name="adj2" fmla="val -35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возможность выбирать шрифты, их размер, начертание. Первый способ (запомните его – практика будет именно по этому способу): щёлкаете по кнопке «Формат» в строке меню и выбираете в появившемся меню «Шрифт...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rot="14008200">
            <a:off x="2253240" y="3848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 rot="14008200">
            <a:off x="3472560" y="635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4" name="WordArt 5"/>
          <p:cNvSpPr txBox="1"/>
          <p:nvPr/>
        </p:nvSpPr>
        <p:spPr>
          <a:xfrm>
            <a:off x="387360" y="1017720"/>
            <a:ext cx="8369280" cy="38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На эт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первое занятие закончен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до новых встреч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55" name="WordArt 6"/>
          <p:cNvSpPr txBox="1"/>
          <p:nvPr/>
        </p:nvSpPr>
        <p:spPr>
          <a:xfrm>
            <a:off x="3740040" y="5199120"/>
            <a:ext cx="1575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Кон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амк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8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rcRect l="22573" t="12031" r="25488" b="12403"/>
          <a:stretch/>
        </p:blipFill>
        <p:spPr>
          <a:xfrm>
            <a:off x="1955880" y="1344600"/>
            <a:ext cx="4749840" cy="51865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235080" y="262080"/>
            <a:ext cx="7770600" cy="992160"/>
          </a:xfrm>
          <a:prstGeom prst="wedgeRoundRectCallout">
            <a:avLst>
              <a:gd name="adj1" fmla="val -16680"/>
              <a:gd name="adj2" fmla="val 24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Шрифт» выбираем всё, что необходимо: шрифт, начертание, размер и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 rot="14008200">
            <a:off x="3347280" y="25182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 rot="14008200">
            <a:off x="5176080" y="2483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 rot="14008200">
            <a:off x="6179400" y="309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 rot="8422800">
            <a:off x="5374800" y="58334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349200" y="2664000"/>
            <a:ext cx="8496360" cy="1741320"/>
          </a:xfrm>
          <a:prstGeom prst="wedgeRoundRectCallout">
            <a:avLst>
              <a:gd name="adj1" fmla="val -33518"/>
              <a:gd name="adj2" fmla="val -3331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торой способ: щёлкаем по кнопкам панели инструментов «Форматирование»: «Шрифт» - чтобы выбрать тип шрифта, «Размер» - размер (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полужирный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курсив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-подчёркнут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 rot="14008200">
            <a:off x="2486880" y="959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14008200">
            <a:off x="3047040" y="9770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14008200">
            <a:off x="3332880" y="9846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 rot="14008200">
            <a:off x="3575880" y="994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 rot="14008200">
            <a:off x="3842640" y="9640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3:35:33Z</dcterms:created>
  <dc:creator>информатика</dc:creator>
  <dc:description/>
  <dc:language>en-US</dc:language>
  <cp:lastModifiedBy>Owner</cp:lastModifiedBy>
  <dcterms:modified xsi:type="dcterms:W3CDTF">2012-05-29T13:14:42Z</dcterms:modified>
  <cp:revision>90</cp:revision>
  <dc:subject/>
  <dc:title>Слайд 1</dc:title>
</cp:coreProperties>
</file>